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6C6A-7F7D-41C1-98DE-85C24ECE5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6C51-D5D8-40A4-B525-10E643E5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D3A7E-8E1F-47C8-88E7-26CEA0CF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D0C99-7B0A-48EA-A294-123E7086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5E9F0-7C58-4140-8BD5-16ECACC3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846CE-7B6A-40C5-B8F7-8AF49BD2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3AF14-DC33-4D5F-99EE-BB71A7E3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60D58-CE58-4A8C-A22E-503EF0E1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68012-4130-40CD-AC0C-8A216A6F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EE54D-01A3-4605-9474-79AED1F7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C9312-C4F6-4940-B01E-A2DCBE034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EA6FDB-891D-4720-9996-FA8C6863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81DA-BED4-436A-8CFC-F664AB736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97E5E-0F22-4116-9402-CAEC2312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497CE-1A52-4944-9624-32DD662F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2130C-83CB-4F02-AA72-B8C857BD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3DA7F-E462-4E6C-A96B-67FFEF47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311116-0363-400A-B7E9-5D951ADF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55AB6-841F-480B-A47A-E78F30BB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C96CB-D48F-44EB-9307-751DFAB1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935085-40B0-45EA-B9C2-F5255786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06E5A-C558-4A55-8CB1-C9B33B58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4B000-AF11-4F69-9242-BCFA56925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0438-1D4F-4567-9480-230798220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4A135-5F4C-4700-80F6-51E927A2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E84B-E509-4F5D-8A7F-50D3F2440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9304-030E-4F20-BD09-D937A452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0F6D-200B-4A8E-ABF8-0501D445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CC9E-14D0-4B19-826C-A3D2F323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CFEB-8F08-43A0-89FB-7249E672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68CC-3C22-4DAE-B16D-481DDBEB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D84C-B45C-4A09-B20E-3C343E9D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2D0E-5037-4AE1-BC79-A1F4E388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F398-7058-4CCB-B57E-9789A4F1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F36E-16E4-4051-9206-C68A15CB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F001-ECA4-491E-A2B5-1C61827F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88B5-F538-43A2-A071-C53A5898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6B52-EB32-49AF-A7CF-2094B0449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17ACE-0296-43B0-B384-B8193A36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9330F-FC96-4FA6-87D0-CF7783A8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6FC56-700A-416E-8E30-3DCCC166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EFA0D-05F4-469F-BB6F-F7E19F87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643BF-E241-441A-9AA7-8E070CF7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E538-31D9-49D7-BB33-B34EAEAA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4C8D5-F75E-4496-9ADF-2AB86331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F117C-AB1A-4CB0-B4BD-EE319136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14742-3D97-4FFA-99F6-2ED21690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11373-8393-4771-A0BE-F77DD9DD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9CE3E-C632-410D-ABE4-D5F7E9EB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50FB7-2872-4AAA-948F-11974D78C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EAEFF-87D2-4CC7-94B5-22DAA1501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23059-887D-44E0-AF38-F34E72C5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A7D1A-6AE5-4ECF-81F8-2B5B7D08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950DF-28BF-4594-85C4-78047F5A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DA1A-412C-4540-BF31-8001A7F3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B617E-5A7B-4463-A762-285B2B53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59A85-EE41-4549-BB3C-4C9D7308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22805-73DC-40F9-8280-5B1B9EB1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63A47-CBFF-45B3-A314-8304C624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41A70-87A7-4645-A309-90ABDF6A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9A3DB-6CE4-4E27-A966-20A06DB1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DFF75-5F86-441E-A112-74CEA60A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65006-F33C-448B-A8C5-AD3CEB34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2E8AA-BE68-4D8D-92C4-3FED7FF58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455E2-F2FF-436A-8450-722DFE10C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94E8-06F1-4005-A7CE-3E42B543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BD66C-B831-4E10-B7CB-E0C13893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3253C-BF6C-4C56-BF0E-8D254D09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63129-1907-48C2-BD87-F181A4C9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44A4A-00CB-4701-875B-4D8F92EE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A6C92-9A58-4188-93D1-E00BE2F5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0D4AB-6179-41EB-8266-B2979AD5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E1878-ED70-4BBE-8D92-839206B3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5F3A1-68A9-4885-B30E-57CFD78C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7474B-7964-42C4-8EDA-444D1A2A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C891A-1C26-4C6C-9A42-92400E2E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34D9-6C67-4CF9-87F6-6A39518D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F8FFF-0CCF-4DDE-B4DF-9BC69EE8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5C58A-BBDD-4DEE-A1E9-AEA1F629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85999-D5E7-46BD-AF6B-E2781766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2388A-5B5C-41C0-98DF-7A55063F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5A4B4-7956-45F9-AE17-C4454893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312C9-94B1-4E66-81CF-74A5BEFF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B8AC3-549E-4459-BE20-FA8234DE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68B08-BF85-4560-991B-E2E01F0F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38F3B-FF10-430A-B544-FBF16DFD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7EB35-B4E3-427B-9546-4BCB86A2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962B-8EA0-4373-AD82-286057DB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088E3-B9A8-458B-A27B-C133F3D5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11EB0-4BD1-4B29-9CB4-4F84E811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22460-5600-4CAD-AC43-F9C4FDCFF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3FB39-5E30-471B-BC4D-75C826DF7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FD411-69B1-428F-9009-CE5CFDF8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D570F-4E35-4C13-83EE-E4FC55AB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B80B2-FA18-4039-A896-964C5A86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9097C-BB45-4A3D-A208-1CEAF5FD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73362-AAD4-489F-AF1A-DD4D13FD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600B2-1619-4233-A60C-D7605304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EA4D-2181-4956-A2A3-67D4DCA9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C395D-875A-4373-B50B-601767C2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D8B88-A7FC-43B3-8159-616A0BCA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92CBF-AD93-485C-817B-D52FA70C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86556-A796-45AE-9109-A7DE4817F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7A253-EF1E-4B4F-BB95-677A9FBFF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D8AB4-2172-446E-8A77-1569BD623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87139-9659-4F6B-A38A-9EBA7854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AD3DF-DACA-40BF-A89E-CDA43EDE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F5B26-B209-4AE4-8A0A-2C4F8DA9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04612-71FE-4898-9E6F-3DABD437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05B0-A7C8-4057-A053-9696DAA8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DF4EF-6E52-4749-94FD-66FD3266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82B88-BBDB-418B-9556-7DA6C316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AC835-C22A-4E0B-B9CC-3E859407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19AA6-5427-4B71-BAC1-B7D84400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DBAA0-EFF8-4955-BF5F-DA7FE2BA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F8B41-EDA8-40D8-9B80-798467375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1270E-AED0-4010-B0AB-549A78B99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8FD22-416F-4FCB-951B-D26F4354B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9DF77-F03D-4AFD-8023-8CB07EA6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C72C8-3009-41DA-A5AC-43B2CF01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231B-DF80-4D4C-93AD-ED7C2A1B698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3AA3-CF22-464B-943F-381EAA90612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E1C9-46A5-4DBE-9C61-BAFFDD74420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4D78-01D4-442D-8956-6EE6CAD6E85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0FF3-1DD7-4194-87BE-889BCE07742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4294-37A9-43BC-9773-421DE0D1704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470F-27BF-4290-A74A-CB8B79A10E2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EA1C-47BC-4441-A3FF-58AEF58DBA5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03FD-044C-4F4C-991B-9BF7B08DB04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0CED-9CA5-4080-8F52-9790AB3F7F6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2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1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안녕하십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_(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보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운동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잡수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주무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자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십시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앉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잡수시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erminate the following verbs with declarative, interrogative, and imperative e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보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입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쓰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660066"/>
                </a:solidFill>
                <a:latin typeface="Corbel"/>
                <a:ea typeface="굴림"/>
              </a:rPr>
              <a:t>제임스</a:t>
            </a:r>
            <a:r>
              <a:rPr b="0" lang="en-US" sz="30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000" spc="-1" strike="noStrike">
                <a:solidFill>
                  <a:srgbClr val="660066"/>
                </a:solidFill>
                <a:latin typeface="Corbel"/>
                <a:ea typeface="굴림"/>
              </a:rPr>
              <a:t>안녕하십니까</a:t>
            </a:r>
            <a:r>
              <a:rPr b="0" lang="en-US" sz="30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하세요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?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안녕하십니까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660066"/>
                </a:solidFill>
                <a:latin typeface="Corbel"/>
                <a:ea typeface="굴림"/>
              </a:rPr>
              <a:t>제임스</a:t>
            </a:r>
            <a:r>
              <a:rPr b="0" lang="en-US" sz="30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000" spc="-1" strike="noStrike">
                <a:solidFill>
                  <a:srgbClr val="660066"/>
                </a:solidFill>
                <a:latin typeface="Corbel"/>
                <a:ea typeface="굴림"/>
              </a:rPr>
              <a:t>안녕히 계십시오</a:t>
            </a:r>
            <a:r>
              <a:rPr b="0" lang="en-US" sz="30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히 계세요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.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안녕히 가십시오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히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가세요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.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  <a:ea typeface="굴림"/>
              </a:rPr>
              <a:t>Study honorific expressions, talking up and down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안녕하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be peaceful, be fine, be we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yes (In the dialogue here, it means ‘I’m fine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안녕히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안녕하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adverb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계시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polite expression of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있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stay, b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종결어미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Terminative Endin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서술형 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Declarative (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옵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감습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의문형 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Interrogative (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옵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감습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명령형 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Imperative (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오십시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감으십시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 (Part of ending, honorific suffi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오십니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감으십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3" descr=""/>
          <p:cNvPicPr/>
          <p:nvPr/>
        </p:nvPicPr>
        <p:blipFill>
          <a:blip r:embed="rId1"/>
          <a:stretch/>
        </p:blipFill>
        <p:spPr>
          <a:xfrm>
            <a:off x="3498840" y="2133720"/>
            <a:ext cx="5400720" cy="28861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" descr=""/>
          <p:cNvPicPr/>
          <p:nvPr/>
        </p:nvPicPr>
        <p:blipFill>
          <a:blip r:embed="rId2"/>
          <a:stretch/>
        </p:blipFill>
        <p:spPr>
          <a:xfrm>
            <a:off x="233280" y="285840"/>
            <a:ext cx="4343400" cy="2095560"/>
          </a:xfrm>
          <a:prstGeom prst="rect">
            <a:avLst/>
          </a:prstGeom>
          <a:ln w="0">
            <a:noFill/>
          </a:ln>
        </p:spPr>
      </p:pic>
      <p:sp>
        <p:nvSpPr>
          <p:cNvPr id="505" name="직사각형 3"/>
          <p:cNvSpPr/>
          <p:nvPr/>
        </p:nvSpPr>
        <p:spPr>
          <a:xfrm>
            <a:off x="4602240" y="3049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http://classroom.re.kr/uploadfile/content/content02/second04/data03/5_3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5" descr=""/>
          <p:cNvPicPr/>
          <p:nvPr/>
        </p:nvPicPr>
        <p:blipFill>
          <a:blip r:embed="rId3"/>
          <a:stretch/>
        </p:blipFill>
        <p:spPr>
          <a:xfrm>
            <a:off x="3564000" y="5157720"/>
            <a:ext cx="4781520" cy="1533600"/>
          </a:xfrm>
          <a:prstGeom prst="rect">
            <a:avLst/>
          </a:prstGeom>
          <a:ln w="0">
            <a:noFill/>
          </a:ln>
        </p:spPr>
      </p:pic>
      <p:sp>
        <p:nvSpPr>
          <p:cNvPr id="507" name="직사각형 4"/>
          <p:cNvSpPr/>
          <p:nvPr/>
        </p:nvSpPr>
        <p:spPr>
          <a:xfrm>
            <a:off x="262080" y="5924520"/>
            <a:ext cx="315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http://dlegongbuwarac.edupia.com/xmlPrint.aspx?did=20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읽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rea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사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u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입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put on, dres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보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e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배우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lear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만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ee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기다리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ai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주무시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leep (h.f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자다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오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om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공부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tud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먹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쓰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rite (bitter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마시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rin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앉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i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잡수시다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먹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운동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xerci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타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ride, boar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자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입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ㅂ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시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잡수시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주무시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jyu</cp:lastModifiedBy>
  <dcterms:modified xsi:type="dcterms:W3CDTF">2012-09-17T02:02:25Z</dcterms:modified>
  <cp:revision>61</cp:revision>
  <dc:subject/>
  <dc:title>KOREAN LANGUAGE</dc:title>
</cp:coreProperties>
</file>